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50" end="5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C94-F3C4-4F31-91D2-B9270DE1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340-0F3A-40B8-BF82-F4F0AE33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7DC-C66C-4185-8E6D-327570B5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560-D7DB-482F-9CAF-DCAB6236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040-7FB4-43C3-8F89-6DD4C4CF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3FB-A84E-49AD-918D-58C038A6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20C-1204-4DBA-96EC-C5530594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E33-7805-43A0-B437-06D0F117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F13-EA66-481C-8B1E-D96F7CC4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5DB-25AA-4040-832B-570E9743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D9C-E528-464F-9B0B-FA4D2018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9D3-5211-4DEB-8221-A6C0876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40F6-841C-4BB5-8598-66ED77930F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pop%202.MP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jazz%202.MPG" TargetMode="Externa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rock.mpg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6AB-A36D-4709-BED9-0570292FE3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b.) be familiar with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某人…对比较熟悉”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熟悉她的声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ha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come familiar with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0800" y="3886200"/>
            <a:ext cx="59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familiar wi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vo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FBD-F55E-430B-BBD3-EB4193216A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 familiar to s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对某人来说比较熟悉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r nam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amilia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267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ery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familiar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r n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7A2-5698-4DA7-BCD5-6C3B112ADA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7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ve some fai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iet and peaceful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would prefer to do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824-4F8F-4CF1-8D84-FA69767FEA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 ---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rath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ay her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-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H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 rather no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isten to jaz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7280" y="41911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’d rathe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AD5-6169-4C96-B449-F104121AE2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 +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 the tru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d not me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4D0-BBC0-4020-95E6-F0C1D05E77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宁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而不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rather hav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red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green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ould rat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isten to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alk himself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8A7-A01A-42C3-A888-F95FBBF194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The student would rather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teach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par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2FF-5192-478E-B33C-3BAA4286D3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愿意坐火车旅行，不愿坐汽车。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2. I would rather travel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than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3280" y="3581280"/>
            <a:ext cx="174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7960" y="441972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65A-BEFE-4ADB-85F5-127F8C0CCC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therwise 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v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therwi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e won’t be able to h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urselves tal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if no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F7A-5095-42CC-BEEA-30A5D3360E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onj.    if not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Now I must g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shall be 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the birthday par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穿上大衣，否则你会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680" y="464832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ar your co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’ll be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B6E-1303-49D3-9458-228228F53B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get to know sth. about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FAE-C036-473A-A583-B9675A461C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r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must pay $ 100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The book must be he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have los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2E0-B250-4D7C-B94D-EA4CDF16B8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 not to play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ike one thing or person bett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喜欢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C53-9675-4683-8E62-4D11E61257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him to spe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ay o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456-F671-4F93-9E61-302F781E4B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不愿意你离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you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 _ 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0080" y="4114800"/>
            <a:ext cx="25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not to le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7C2-7795-45DB-8973-9918B67C67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不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 offered to drive us home, b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to wal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not to st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FA7-A8ED-4A02-92CA-74F824D18C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比起后者来更喜欢前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1. I prefer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English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to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Japanese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B7C-72F7-41CB-AFBB-AF03125639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atch TV at hom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ch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TV at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CBB-9327-4EF8-AD4E-0C62FD3760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to do) sth. rather than (do) sth.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…而不愿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喜欢牛肉，不喜欢猪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pref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 rea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ooks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it idl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4840" y="38098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prefer beef rather than p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B40-7551-46D7-A260-2D1A53574F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refer to,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2ED-5545-4402-B188-00CBDC35E3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prefer to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64C-C1C8-4B37-9521-0283AC947F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8D1-D0E6-4BEB-8830-CCDC9B18F0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1A1-DF29-4CC3-AC04-37F54BEE12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3D7-9FAC-4A0D-870F-6534111C8F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894-8939-40D7-B1D5-61B998791D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773-1A3F-490D-9EBC-3C143567D8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390-C703-462E-B112-2A237BBEE0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BA1-F446-40DC-B522-EDEA40B4C5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EBD-266E-4456-A8F8-5678D0BC62F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3F7-A693-48C3-B543-FF57B7AE14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53C-F293-43FA-B8DF-BBA49405EA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14D-5BC0-4D8E-925F-244058DC3D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C5E-A514-4513-ACEC-935A0A99CF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DBE-E291-4691-A3A0-51D7EABD70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DEC-6B92-4150-A809-416FBEDB383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22C-6DBF-42B9-A36D-F152794DCDC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054-149F-4D27-AA3C-F88151C9EC1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any people write music fo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ll pop stars write so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sel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Folk music has a long hi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2666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464832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141-7458-47C3-B8DB-6DFC08F182C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n the old days without radio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V or  cinema, people loved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spected the music perform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ery much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Now, some musicians per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the streets for free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038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8360" y="5334120"/>
            <a:ext cx="5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27F-417B-4B6F-A854-CF7EFC6FBB5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Folk music plays an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rt in African people’s lives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China makes the most film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orld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Musicals are films with music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27432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11320" y="4267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49528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F5A-048F-4C9C-B27A-158F6028231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9. West Indians were brough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frica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 Jazz was born in 1980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 Jazz was developed in the so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the USA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4120" y="2819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4520" y="3505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4952880"/>
            <a:ext cx="5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696-7BA8-4D7F-BD17-7761398FC0F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country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ra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o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722-5DB7-4D0B-8B22-80DF7870EF2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107-7FFD-40DC-8C93-DA044E770F5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30B-8BA4-4E26-B4E2-57A101E067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流行音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rong beat and not of la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est, especially just fav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a short time by younger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B9B-5362-44C7-B493-AB0AD89D5BE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BB1-E428-40CF-8744-29DEA26683D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爵士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usic originated by black Americans, usually with a strong beat and some free playing by each musician in the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205-C0CC-498E-A1F2-FE771147887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147-8067-4EE7-9A03-DB8E34EA9D4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摇滚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lso called rock and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stro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at, played loudly on electr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ments, in which the sing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peats the same few simpl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B80-6AD3-4DC6-9898-1EDC4A2313D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. Word study— Page 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B. Exercise 2 — Page 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04C-BCDF-4BFF-908F-06B3E58CDF4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ww.bjedu.gov.c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592-8440-44A7-B24C-EB81065644B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3DF-FECB-4A6A-AF24-7FFA5A1B07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6EC-A372-49DD-ABDE-714F63C131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1DE-3C46-44AE-A9A8-74F3C5A47E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amilia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4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songs that everyon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s familiar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generally  known or see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熟悉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F5D-A4D9-4D0E-8CDC-BE31C9AD3D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1:29:00Z</dcterms:created>
  <dc:creator>BJ4HS</dc:creator>
  <dc:description/>
  <dc:language>en-US</dc:language>
  <cp:lastModifiedBy>Zhang Lingdi</cp:lastModifiedBy>
  <dcterms:modified xsi:type="dcterms:W3CDTF">2003-06-03T06:45:43Z</dcterms:modified>
  <cp:revision>107</cp:revision>
  <dc:subject/>
  <dc:title>Unit 21 Music （一）</dc:title>
</cp:coreProperties>
</file>